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4.png" ContentType="image/png"/>
  <Override PartName="/ppt/media/image2.jpeg" ContentType="image/jpeg"/>
  <Override PartName="/ppt/media/image3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0988-ECA7-4470-B423-16A504F1D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2CF8-44CB-40AB-98C9-38FB2B555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82B0-7D20-4CEA-92BC-0761A22B5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D21D-B09C-41AB-9C16-35B3DC1DF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250E6-D586-4D28-8312-7701AB9ED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F957F-EB7F-4341-A0A5-2F42C6E85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9CDB5-A09B-4AF5-9B1A-0302AB5AF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4FF98-DF5D-4259-A871-5AF239217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EBF6E-640B-4CC4-8016-51B5686C4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3BAE6-10F8-4EFE-BEF7-BA406B581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6588B-1934-4F30-99E5-7E7B021D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B765-71FF-46A9-A015-65046B386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DB82E-7B05-4BD6-B3E2-E9B882F9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1B582-4B1E-47A4-9701-3B44D833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B227D-F6EC-4BB0-91BB-FC6BDCED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4D83A-F828-42D8-961E-06CC8864A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F90A0-91AD-4484-8C7E-6DCBEE1E9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4123-658D-4034-B524-7F8AC1E57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DFC0-0AEE-4283-8FDA-CD8CFA5A3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54C0-22E2-4F4B-91A0-2F9540728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64F4-FF86-4BFA-965D-38C6B952F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8934-A80E-4046-A0C1-F1EBD002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2D9B-BA65-4102-922A-852662B5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56CE-17B0-48FB-AD43-8E556094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286000"/>
            <a:ext cx="9144000" cy="3581280"/>
            <a:chOff x="0" y="2286000"/>
            <a:chExt cx="9144000" cy="3581280"/>
          </a:xfrm>
        </p:grpSpPr>
        <p:sp>
          <p:nvSpPr>
            <p:cNvPr id="1" name=""/>
            <p:cNvSpPr/>
            <p:nvPr/>
          </p:nvSpPr>
          <p:spPr>
            <a:xfrm>
              <a:off x="0" y="2590560"/>
              <a:ext cx="9144000" cy="837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28640"/>
              <a:ext cx="9144000" cy="182844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57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09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62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14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66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219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371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523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676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28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981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133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286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438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590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743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895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048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200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352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05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657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809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962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114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267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419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572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4724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876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029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181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334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486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638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5791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943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19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248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400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705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858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010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162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315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67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620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72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924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77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229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81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534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6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39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991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3504960"/>
              <a:ext cx="91440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29772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65680" indent="-26964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7800" indent="-25632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2"/>
          </p:nvPr>
        </p:nvSpPr>
        <p:spPr>
          <a:xfrm>
            <a:off x="2057400" y="6248520"/>
            <a:ext cx="523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3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2D1CB-B004-4E30-B09A-E37C73F90298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5800" y="1652760"/>
            <a:ext cx="914400" cy="17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3124080"/>
            <a:ext cx="9144000" cy="3581640"/>
            <a:chOff x="0" y="3124080"/>
            <a:chExt cx="9144000" cy="3581640"/>
          </a:xfrm>
        </p:grpSpPr>
        <p:sp>
          <p:nvSpPr>
            <p:cNvPr id="107" name=""/>
            <p:cNvSpPr/>
            <p:nvPr/>
          </p:nvSpPr>
          <p:spPr>
            <a:xfrm>
              <a:off x="0" y="342900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4267080"/>
              <a:ext cx="9144000" cy="182880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2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4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09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2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14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66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19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71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23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76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28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81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33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86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38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90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43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95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48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00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2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05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57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09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62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67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19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72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24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876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29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81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34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86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38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91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943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19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48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00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53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05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58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10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62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15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67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20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772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924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077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229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381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534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686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839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991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4343400"/>
              <a:ext cx="914400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5"/>
          </p:nvPr>
        </p:nvSpPr>
        <p:spPr>
          <a:xfrm>
            <a:off x="205704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3871080" y="1005120"/>
            <a:ext cx="150840" cy="4845240"/>
          </a:xfrm>
          <a:custGeom>
            <a:avLst/>
            <a:gdLst/>
            <a:ahLst/>
            <a:rect l="l" t="t" r="r" b="b"/>
            <a:pathLst>
              <a:path w="95" h="3052">
                <a:moveTo>
                  <a:pt x="4" y="3052"/>
                </a:moveTo>
                <a:lnTo>
                  <a:pt x="4" y="3032"/>
                </a:lnTo>
                <a:lnTo>
                  <a:pt x="5" y="3008"/>
                </a:lnTo>
                <a:lnTo>
                  <a:pt x="12" y="2948"/>
                </a:lnTo>
                <a:lnTo>
                  <a:pt x="19" y="2882"/>
                </a:lnTo>
                <a:lnTo>
                  <a:pt x="21" y="2846"/>
                </a:lnTo>
                <a:lnTo>
                  <a:pt x="23" y="2810"/>
                </a:lnTo>
                <a:lnTo>
                  <a:pt x="26" y="2736"/>
                </a:lnTo>
                <a:lnTo>
                  <a:pt x="28" y="2662"/>
                </a:lnTo>
                <a:lnTo>
                  <a:pt x="32" y="2596"/>
                </a:lnTo>
                <a:lnTo>
                  <a:pt x="35" y="2540"/>
                </a:lnTo>
                <a:lnTo>
                  <a:pt x="44" y="2426"/>
                </a:lnTo>
                <a:lnTo>
                  <a:pt x="43" y="2444"/>
                </a:lnTo>
                <a:lnTo>
                  <a:pt x="35" y="2540"/>
                </a:lnTo>
                <a:lnTo>
                  <a:pt x="32" y="2602"/>
                </a:lnTo>
                <a:lnTo>
                  <a:pt x="28" y="2676"/>
                </a:lnTo>
                <a:lnTo>
                  <a:pt x="36" y="2582"/>
                </a:lnTo>
                <a:lnTo>
                  <a:pt x="40" y="2540"/>
                </a:lnTo>
                <a:lnTo>
                  <a:pt x="45" y="2504"/>
                </a:lnTo>
                <a:lnTo>
                  <a:pt x="48" y="2456"/>
                </a:lnTo>
                <a:lnTo>
                  <a:pt x="50" y="2404"/>
                </a:lnTo>
                <a:lnTo>
                  <a:pt x="52" y="2350"/>
                </a:lnTo>
                <a:lnTo>
                  <a:pt x="54" y="2294"/>
                </a:lnTo>
                <a:lnTo>
                  <a:pt x="54" y="2184"/>
                </a:lnTo>
                <a:lnTo>
                  <a:pt x="52" y="2074"/>
                </a:lnTo>
                <a:lnTo>
                  <a:pt x="52" y="1966"/>
                </a:lnTo>
                <a:lnTo>
                  <a:pt x="52" y="1916"/>
                </a:lnTo>
                <a:lnTo>
                  <a:pt x="55" y="1854"/>
                </a:lnTo>
                <a:lnTo>
                  <a:pt x="57" y="1794"/>
                </a:lnTo>
                <a:lnTo>
                  <a:pt x="59" y="1768"/>
                </a:lnTo>
                <a:lnTo>
                  <a:pt x="61" y="1746"/>
                </a:lnTo>
                <a:lnTo>
                  <a:pt x="59" y="1786"/>
                </a:lnTo>
                <a:lnTo>
                  <a:pt x="57" y="1826"/>
                </a:lnTo>
                <a:lnTo>
                  <a:pt x="55" y="1906"/>
                </a:lnTo>
                <a:lnTo>
                  <a:pt x="55" y="1986"/>
                </a:lnTo>
                <a:lnTo>
                  <a:pt x="55" y="2068"/>
                </a:lnTo>
                <a:lnTo>
                  <a:pt x="57" y="2230"/>
                </a:lnTo>
                <a:lnTo>
                  <a:pt x="57" y="2310"/>
                </a:lnTo>
                <a:lnTo>
                  <a:pt x="55" y="2392"/>
                </a:lnTo>
                <a:lnTo>
                  <a:pt x="56" y="2374"/>
                </a:lnTo>
                <a:lnTo>
                  <a:pt x="58" y="2290"/>
                </a:lnTo>
                <a:lnTo>
                  <a:pt x="58" y="2204"/>
                </a:lnTo>
                <a:lnTo>
                  <a:pt x="57" y="2034"/>
                </a:lnTo>
                <a:lnTo>
                  <a:pt x="58" y="1974"/>
                </a:lnTo>
                <a:lnTo>
                  <a:pt x="57" y="2034"/>
                </a:lnTo>
                <a:lnTo>
                  <a:pt x="59" y="2108"/>
                </a:lnTo>
                <a:lnTo>
                  <a:pt x="60" y="2188"/>
                </a:lnTo>
                <a:lnTo>
                  <a:pt x="60" y="2242"/>
                </a:lnTo>
                <a:lnTo>
                  <a:pt x="60" y="2294"/>
                </a:lnTo>
                <a:lnTo>
                  <a:pt x="58" y="2336"/>
                </a:lnTo>
                <a:lnTo>
                  <a:pt x="56" y="2374"/>
                </a:lnTo>
                <a:lnTo>
                  <a:pt x="54" y="2426"/>
                </a:lnTo>
                <a:lnTo>
                  <a:pt x="54" y="2442"/>
                </a:lnTo>
                <a:lnTo>
                  <a:pt x="56" y="2428"/>
                </a:lnTo>
                <a:lnTo>
                  <a:pt x="58" y="2408"/>
                </a:lnTo>
                <a:lnTo>
                  <a:pt x="62" y="2348"/>
                </a:lnTo>
                <a:lnTo>
                  <a:pt x="64" y="2270"/>
                </a:lnTo>
                <a:lnTo>
                  <a:pt x="66" y="2180"/>
                </a:lnTo>
                <a:lnTo>
                  <a:pt x="68" y="2006"/>
                </a:lnTo>
                <a:lnTo>
                  <a:pt x="68" y="1900"/>
                </a:lnTo>
                <a:lnTo>
                  <a:pt x="68" y="1858"/>
                </a:lnTo>
                <a:lnTo>
                  <a:pt x="67" y="1818"/>
                </a:lnTo>
                <a:lnTo>
                  <a:pt x="67" y="1776"/>
                </a:lnTo>
                <a:lnTo>
                  <a:pt x="68" y="1732"/>
                </a:lnTo>
                <a:lnTo>
                  <a:pt x="71" y="1704"/>
                </a:lnTo>
                <a:lnTo>
                  <a:pt x="72" y="1690"/>
                </a:lnTo>
                <a:lnTo>
                  <a:pt x="72" y="1678"/>
                </a:lnTo>
                <a:lnTo>
                  <a:pt x="72" y="1672"/>
                </a:lnTo>
                <a:lnTo>
                  <a:pt x="72" y="1660"/>
                </a:lnTo>
                <a:lnTo>
                  <a:pt x="74" y="1628"/>
                </a:lnTo>
                <a:lnTo>
                  <a:pt x="78" y="1598"/>
                </a:lnTo>
                <a:lnTo>
                  <a:pt x="80" y="1570"/>
                </a:lnTo>
                <a:lnTo>
                  <a:pt x="81" y="1544"/>
                </a:lnTo>
                <a:lnTo>
                  <a:pt x="82" y="1534"/>
                </a:lnTo>
                <a:lnTo>
                  <a:pt x="84" y="1520"/>
                </a:lnTo>
                <a:lnTo>
                  <a:pt x="88" y="1492"/>
                </a:lnTo>
                <a:lnTo>
                  <a:pt x="94" y="1466"/>
                </a:lnTo>
                <a:lnTo>
                  <a:pt x="95" y="1456"/>
                </a:lnTo>
                <a:lnTo>
                  <a:pt x="95" y="1452"/>
                </a:lnTo>
                <a:lnTo>
                  <a:pt x="91" y="1442"/>
                </a:lnTo>
                <a:lnTo>
                  <a:pt x="90" y="1440"/>
                </a:lnTo>
                <a:lnTo>
                  <a:pt x="90" y="1436"/>
                </a:lnTo>
                <a:lnTo>
                  <a:pt x="92" y="1422"/>
                </a:lnTo>
                <a:lnTo>
                  <a:pt x="93" y="1390"/>
                </a:lnTo>
                <a:lnTo>
                  <a:pt x="90" y="1372"/>
                </a:lnTo>
                <a:lnTo>
                  <a:pt x="88" y="1360"/>
                </a:lnTo>
                <a:lnTo>
                  <a:pt x="87" y="1348"/>
                </a:lnTo>
                <a:lnTo>
                  <a:pt x="86" y="1320"/>
                </a:lnTo>
                <a:lnTo>
                  <a:pt x="84" y="1298"/>
                </a:lnTo>
                <a:lnTo>
                  <a:pt x="82" y="1274"/>
                </a:lnTo>
                <a:lnTo>
                  <a:pt x="79" y="1244"/>
                </a:lnTo>
                <a:lnTo>
                  <a:pt x="75" y="1198"/>
                </a:lnTo>
                <a:lnTo>
                  <a:pt x="74" y="1164"/>
                </a:lnTo>
                <a:lnTo>
                  <a:pt x="73" y="1130"/>
                </a:lnTo>
                <a:lnTo>
                  <a:pt x="69" y="1090"/>
                </a:lnTo>
                <a:lnTo>
                  <a:pt x="66" y="1032"/>
                </a:lnTo>
                <a:lnTo>
                  <a:pt x="63" y="980"/>
                </a:lnTo>
                <a:lnTo>
                  <a:pt x="63" y="924"/>
                </a:lnTo>
                <a:lnTo>
                  <a:pt x="63" y="876"/>
                </a:lnTo>
                <a:lnTo>
                  <a:pt x="63" y="830"/>
                </a:lnTo>
                <a:lnTo>
                  <a:pt x="66" y="784"/>
                </a:lnTo>
                <a:lnTo>
                  <a:pt x="63" y="756"/>
                </a:lnTo>
                <a:lnTo>
                  <a:pt x="62" y="726"/>
                </a:lnTo>
                <a:lnTo>
                  <a:pt x="60" y="662"/>
                </a:lnTo>
                <a:lnTo>
                  <a:pt x="58" y="598"/>
                </a:lnTo>
                <a:lnTo>
                  <a:pt x="55" y="536"/>
                </a:lnTo>
                <a:lnTo>
                  <a:pt x="52" y="486"/>
                </a:lnTo>
                <a:lnTo>
                  <a:pt x="51" y="444"/>
                </a:lnTo>
                <a:lnTo>
                  <a:pt x="54" y="360"/>
                </a:lnTo>
                <a:lnTo>
                  <a:pt x="54" y="334"/>
                </a:lnTo>
                <a:lnTo>
                  <a:pt x="54" y="314"/>
                </a:lnTo>
                <a:lnTo>
                  <a:pt x="54" y="304"/>
                </a:lnTo>
                <a:lnTo>
                  <a:pt x="52" y="290"/>
                </a:lnTo>
                <a:lnTo>
                  <a:pt x="51" y="274"/>
                </a:lnTo>
                <a:lnTo>
                  <a:pt x="51" y="258"/>
                </a:lnTo>
                <a:lnTo>
                  <a:pt x="54" y="262"/>
                </a:lnTo>
                <a:lnTo>
                  <a:pt x="55" y="238"/>
                </a:lnTo>
                <a:lnTo>
                  <a:pt x="55" y="232"/>
                </a:lnTo>
                <a:lnTo>
                  <a:pt x="56" y="234"/>
                </a:lnTo>
                <a:lnTo>
                  <a:pt x="58" y="236"/>
                </a:lnTo>
                <a:lnTo>
                  <a:pt x="59" y="238"/>
                </a:lnTo>
                <a:lnTo>
                  <a:pt x="60" y="236"/>
                </a:lnTo>
                <a:lnTo>
                  <a:pt x="61" y="230"/>
                </a:lnTo>
                <a:lnTo>
                  <a:pt x="63" y="190"/>
                </a:lnTo>
                <a:lnTo>
                  <a:pt x="66" y="150"/>
                </a:lnTo>
                <a:lnTo>
                  <a:pt x="66" y="110"/>
                </a:lnTo>
                <a:lnTo>
                  <a:pt x="66" y="72"/>
                </a:lnTo>
                <a:lnTo>
                  <a:pt x="64" y="68"/>
                </a:lnTo>
                <a:lnTo>
                  <a:pt x="62" y="64"/>
                </a:lnTo>
                <a:lnTo>
                  <a:pt x="63" y="40"/>
                </a:lnTo>
                <a:lnTo>
                  <a:pt x="61" y="38"/>
                </a:lnTo>
                <a:lnTo>
                  <a:pt x="60" y="36"/>
                </a:lnTo>
                <a:lnTo>
                  <a:pt x="58" y="34"/>
                </a:lnTo>
                <a:lnTo>
                  <a:pt x="57" y="32"/>
                </a:lnTo>
                <a:lnTo>
                  <a:pt x="55" y="30"/>
                </a:lnTo>
                <a:lnTo>
                  <a:pt x="52" y="26"/>
                </a:lnTo>
                <a:lnTo>
                  <a:pt x="48" y="12"/>
                </a:lnTo>
                <a:lnTo>
                  <a:pt x="44" y="2"/>
                </a:lnTo>
                <a:lnTo>
                  <a:pt x="41" y="0"/>
                </a:lnTo>
                <a:lnTo>
                  <a:pt x="39" y="0"/>
                </a:lnTo>
                <a:lnTo>
                  <a:pt x="37" y="8"/>
                </a:lnTo>
                <a:lnTo>
                  <a:pt x="34" y="28"/>
                </a:lnTo>
                <a:lnTo>
                  <a:pt x="31" y="50"/>
                </a:lnTo>
                <a:lnTo>
                  <a:pt x="26" y="68"/>
                </a:lnTo>
                <a:lnTo>
                  <a:pt x="26" y="70"/>
                </a:lnTo>
                <a:lnTo>
                  <a:pt x="25" y="70"/>
                </a:lnTo>
                <a:lnTo>
                  <a:pt x="24" y="66"/>
                </a:lnTo>
                <a:lnTo>
                  <a:pt x="22" y="56"/>
                </a:lnTo>
                <a:lnTo>
                  <a:pt x="20" y="72"/>
                </a:lnTo>
                <a:lnTo>
                  <a:pt x="19" y="80"/>
                </a:lnTo>
                <a:lnTo>
                  <a:pt x="17" y="80"/>
                </a:lnTo>
                <a:lnTo>
                  <a:pt x="16" y="80"/>
                </a:lnTo>
                <a:lnTo>
                  <a:pt x="15" y="72"/>
                </a:lnTo>
                <a:lnTo>
                  <a:pt x="14" y="86"/>
                </a:lnTo>
                <a:lnTo>
                  <a:pt x="11" y="78"/>
                </a:lnTo>
                <a:lnTo>
                  <a:pt x="5" y="134"/>
                </a:lnTo>
                <a:lnTo>
                  <a:pt x="1" y="190"/>
                </a:lnTo>
                <a:lnTo>
                  <a:pt x="0" y="220"/>
                </a:lnTo>
                <a:lnTo>
                  <a:pt x="0" y="248"/>
                </a:lnTo>
                <a:lnTo>
                  <a:pt x="0" y="274"/>
                </a:lnTo>
                <a:lnTo>
                  <a:pt x="1" y="302"/>
                </a:lnTo>
                <a:lnTo>
                  <a:pt x="3" y="328"/>
                </a:lnTo>
                <a:lnTo>
                  <a:pt x="7" y="358"/>
                </a:lnTo>
                <a:lnTo>
                  <a:pt x="7" y="374"/>
                </a:lnTo>
                <a:lnTo>
                  <a:pt x="7" y="390"/>
                </a:lnTo>
                <a:lnTo>
                  <a:pt x="9" y="396"/>
                </a:lnTo>
                <a:lnTo>
                  <a:pt x="11" y="400"/>
                </a:lnTo>
                <a:lnTo>
                  <a:pt x="14" y="404"/>
                </a:lnTo>
                <a:lnTo>
                  <a:pt x="15" y="450"/>
                </a:lnTo>
                <a:lnTo>
                  <a:pt x="16" y="502"/>
                </a:lnTo>
                <a:lnTo>
                  <a:pt x="17" y="526"/>
                </a:lnTo>
                <a:lnTo>
                  <a:pt x="20" y="544"/>
                </a:lnTo>
                <a:lnTo>
                  <a:pt x="22" y="556"/>
                </a:lnTo>
                <a:lnTo>
                  <a:pt x="23" y="558"/>
                </a:lnTo>
                <a:lnTo>
                  <a:pt x="25" y="558"/>
                </a:lnTo>
                <a:lnTo>
                  <a:pt x="26" y="584"/>
                </a:lnTo>
                <a:lnTo>
                  <a:pt x="28" y="602"/>
                </a:lnTo>
                <a:lnTo>
                  <a:pt x="32" y="622"/>
                </a:lnTo>
                <a:lnTo>
                  <a:pt x="34" y="648"/>
                </a:lnTo>
                <a:lnTo>
                  <a:pt x="38" y="740"/>
                </a:lnTo>
                <a:lnTo>
                  <a:pt x="40" y="790"/>
                </a:lnTo>
                <a:lnTo>
                  <a:pt x="41" y="840"/>
                </a:lnTo>
                <a:lnTo>
                  <a:pt x="43" y="896"/>
                </a:lnTo>
                <a:lnTo>
                  <a:pt x="41" y="952"/>
                </a:lnTo>
                <a:lnTo>
                  <a:pt x="41" y="992"/>
                </a:lnTo>
                <a:lnTo>
                  <a:pt x="43" y="1094"/>
                </a:lnTo>
                <a:lnTo>
                  <a:pt x="46" y="1190"/>
                </a:lnTo>
                <a:lnTo>
                  <a:pt x="50" y="1282"/>
                </a:lnTo>
                <a:lnTo>
                  <a:pt x="55" y="1370"/>
                </a:lnTo>
                <a:lnTo>
                  <a:pt x="57" y="1414"/>
                </a:lnTo>
                <a:lnTo>
                  <a:pt x="56" y="1456"/>
                </a:lnTo>
                <a:lnTo>
                  <a:pt x="55" y="1500"/>
                </a:lnTo>
                <a:lnTo>
                  <a:pt x="52" y="1544"/>
                </a:lnTo>
                <a:lnTo>
                  <a:pt x="46" y="1636"/>
                </a:lnTo>
                <a:lnTo>
                  <a:pt x="40" y="1736"/>
                </a:lnTo>
                <a:lnTo>
                  <a:pt x="38" y="1786"/>
                </a:lnTo>
                <a:lnTo>
                  <a:pt x="38" y="1838"/>
                </a:lnTo>
                <a:lnTo>
                  <a:pt x="37" y="1942"/>
                </a:lnTo>
                <a:lnTo>
                  <a:pt x="39" y="2046"/>
                </a:lnTo>
                <a:lnTo>
                  <a:pt x="40" y="2148"/>
                </a:lnTo>
                <a:lnTo>
                  <a:pt x="41" y="2248"/>
                </a:lnTo>
                <a:lnTo>
                  <a:pt x="40" y="2344"/>
                </a:lnTo>
                <a:lnTo>
                  <a:pt x="39" y="2392"/>
                </a:lnTo>
                <a:lnTo>
                  <a:pt x="37" y="2438"/>
                </a:lnTo>
                <a:lnTo>
                  <a:pt x="35" y="2482"/>
                </a:lnTo>
                <a:lnTo>
                  <a:pt x="31" y="2526"/>
                </a:lnTo>
                <a:lnTo>
                  <a:pt x="25" y="2612"/>
                </a:lnTo>
                <a:lnTo>
                  <a:pt x="22" y="2692"/>
                </a:lnTo>
                <a:lnTo>
                  <a:pt x="20" y="2766"/>
                </a:lnTo>
                <a:lnTo>
                  <a:pt x="15" y="2830"/>
                </a:lnTo>
                <a:lnTo>
                  <a:pt x="11" y="2886"/>
                </a:lnTo>
                <a:lnTo>
                  <a:pt x="5" y="2936"/>
                </a:lnTo>
                <a:lnTo>
                  <a:pt x="2" y="2976"/>
                </a:lnTo>
                <a:lnTo>
                  <a:pt x="1" y="2994"/>
                </a:lnTo>
                <a:lnTo>
                  <a:pt x="0" y="3010"/>
                </a:lnTo>
                <a:lnTo>
                  <a:pt x="2" y="3032"/>
                </a:lnTo>
                <a:lnTo>
                  <a:pt x="4" y="3052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A7E3D-734B-4099-8D09-26205B5CDFE5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 algn="ctr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601"/>
              </a:spcBef>
              <a:buClr>
                <a:srgbClr val="99cc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71360" algn="ctr">
              <a:spcBef>
                <a:spcPts val="4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22392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09680" y="762120"/>
            <a:ext cx="4648320" cy="304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cff24"/>
                </a:solidFill>
                <a:latin typeface="Arial"/>
              </a:rPr>
              <a:t>Burns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3276360" y="4419720"/>
            <a:ext cx="759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t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666880" y="2819520"/>
            <a:ext cx="406404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Bur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mage done to sk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mfort to vict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8288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951ff"/>
                </a:solidFill>
                <a:latin typeface="Arial"/>
              </a:rPr>
              <a:t>How are Burns caus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1ff"/>
                </a:solidFill>
                <a:latin typeface="Arial"/>
              </a:rPr>
              <a:t>F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1ff"/>
                </a:solidFill>
                <a:latin typeface="Arial"/>
              </a:rPr>
              <a:t>Hot objects or liqui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1ff"/>
                </a:solidFill>
                <a:latin typeface="Arial"/>
              </a:rPr>
              <a:t>Electric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1ff"/>
                </a:solidFill>
                <a:latin typeface="Arial"/>
              </a:rPr>
              <a:t>S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1ff"/>
                </a:solidFill>
                <a:latin typeface="Arial"/>
              </a:rPr>
              <a:t>Chemic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419720" y="3124080"/>
            <a:ext cx="2300040" cy="30607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8458200" y="6451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6503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First-Degree Bur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Outer layer of skin is burned and turns 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Like sunbu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90c"/>
                </a:solidFill>
                <a:latin typeface="Arial"/>
              </a:rPr>
              <a:t>Second-Degree Bur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4700d"/>
                </a:solidFill>
                <a:latin typeface="Arial"/>
              </a:rPr>
              <a:t>A serious burn that Blis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4700d"/>
                </a:solidFill>
                <a:latin typeface="Arial"/>
              </a:rPr>
              <a:t>Usually healing without scar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Third-Degree Bur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Very seriou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Deep layers of skin and nerve endings are damag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Very intense pain and will sc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to treat a bur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n the burn under cold w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t Ice on it until it doesn’t hur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p something protective around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590560" y="1523880"/>
            <a:ext cx="4421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End!!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852560" y="4379760"/>
            <a:ext cx="456264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Henry Beeneng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5029200" y="2362320"/>
            <a:ext cx="2755800" cy="21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3T13:33:46Z</dcterms:created>
  <dc:creator>Kraybill Campus LMS</dc:creator>
  <dc:description/>
  <dc:language>en-US</dc:language>
  <cp:lastModifiedBy>Kraybill Campus LMS</cp:lastModifiedBy>
  <dcterms:modified xsi:type="dcterms:W3CDTF">2011-05-26T16:06:52Z</dcterms:modified>
  <cp:revision>5</cp:revision>
  <dc:subject/>
  <dc:title>Burns!</dc:title>
</cp:coreProperties>
</file>